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C27-1CB7-43D7-A08F-34742B91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DAE-4822-49DC-B4CA-426972E1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3D4-1FBD-46BB-ABBE-8DF3B34C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E91-3E32-425A-80A0-8A9E6837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D7EA-95CE-4C1B-8306-E0EA084C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FFAB-F007-43E8-8334-5645D95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78E3-FF5E-490D-A446-91EE874D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09A5-4FB3-4A05-BA39-7259CDD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AB9B-7B2A-4525-A301-CA47AAA4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23F6-7AB7-4D52-8F0E-C695A77D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5750-946B-4782-BFE0-4476476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3CF-2A59-42FB-9E9D-97FC2F7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140D-DBBD-4C6C-978C-D8C4A58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61D-14C2-4486-BC0B-8B93DF77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BAA6-07AF-4200-B402-4E860C8C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EC94-7155-4EC4-955A-C173EACF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3BC5-19CE-4CD3-A8A4-F90AF597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9BE7-377C-484B-8D68-B3D6100A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C595-9739-4ADA-81A2-AD4D5375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2E9C-FA50-4726-954C-4873B1F1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C092-196A-4006-BBF4-4A3E814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1AF5-E9D7-4C98-850C-46BD088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144-04EA-49CF-8D05-AF30136B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49FB-341E-436B-8DF4-F3C80721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8433-0FB2-490D-A308-A5E0CF01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B37E-2C62-4A2F-BDB9-9DE8134A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3F62-F733-4B7B-AFF4-929FE31D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0DC3-6308-4118-B364-52AA1205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61A2-3BA9-4ED9-BFA1-6E0C900D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1B8F-722A-4371-96B3-F221CBC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A1A3-9625-44EC-B5B6-ACFF3DAC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4793-3404-4019-9679-93618CBC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294D-8606-4C6F-8AC9-DF4444EB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E8E-5317-43CD-A85A-675C3DC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CE9F-B5A1-43F0-AC33-4231EAC5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218E-26AC-418B-B808-9BADC8FE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CD5C-D417-4195-97B2-4EF42C8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B692-11E8-4D01-9D24-09A7DD1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C65EB-8AA3-4C27-B303-E501267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E739-A080-4025-A3E8-BBD5E56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10EB-A63E-4E30-A14C-EC53DC23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CEB3-65E5-40D1-BDAB-B4CB91E7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37690-61B6-439A-8F68-DFEC428C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7CBBEF-29E3-4268-9910-64ED40B8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CD6-EF7A-409D-B837-79BC440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315740-0875-46C0-9A1B-7DC6F786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698DA-62D9-4AEE-8E28-7AC84B36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2009C0-4562-411A-9F9D-908A7617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82000-585C-4641-B0EE-F8C05C4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685E9-8D8F-4E33-9B82-332AD59E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0472E0-FC13-4C19-AEA1-D933600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2BF5C-6296-4625-910D-816D3D3D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F9E241-A474-46EB-8933-D431720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5C8342-B950-41FA-8A61-1849753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6FA62C-B225-41F9-93A3-089BDCA0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EE0-3B0D-45D1-B1F4-C6E29677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BD4C48-0EAF-4250-865D-ED5015C1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4F2F-3505-44A6-A93A-0D700AE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4BF4E-5775-44B8-B082-AEF2C83B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2E2F-7420-4E59-97E2-F17C70A3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563C-847B-43CE-A0FB-F694827E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12AF-8418-41FC-8435-CB6E4768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6DAD-0FA0-4B15-9C52-5FA3C819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E4E5-B803-43C7-A777-A38A10ED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C4A5-AF9D-446D-8067-89A9164E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92871-DC97-4F71-8599-B720609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FFD-EB7B-49F6-BDC0-383D65D3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F3743-6646-4F5D-9238-6A4224F0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6426-86E3-47F1-8572-B06ABA48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428D0-8B08-489A-85B9-72245A1D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D52-CE48-436F-8CBF-69CF33B4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05A-1EF6-4492-8F87-5CD70A5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49A7-13AC-41C6-84A5-3DAA60EC1B8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3551-AA90-429C-B92C-8ADF201B310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4176-F183-44D3-855F-F61B70789A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6479-95D0-47BF-B52A-9491BCBD4D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0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1034-01AF-4AAF-830F-4CCB9C2216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6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75BE-A9AC-45C9-A830-1A739FA274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THER RUSSIA’S PA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aniel Drisco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lson W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abelle L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lict where the red army (communists) defended  the Bolshevik government from the white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used by the treaty of Brest-Litovs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anti Bolshevik authorities app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24Z</dcterms:created>
  <dc:creator> </dc:creator>
  <dc:description/>
  <dc:language>en-US</dc:language>
  <cp:lastModifiedBy>wong</cp:lastModifiedBy>
  <dcterms:modified xsi:type="dcterms:W3CDTF">2010-12-20T02:21:58Z</dcterms:modified>
  <cp:revision>3</cp:revision>
  <dc:subject/>
  <dc:title>MOTHER RUSSIA’S PAST</dc:title>
</cp:coreProperties>
</file>